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8.wmf" ContentType="image/x-wmf"/>
  <Override PartName="/ppt/media/image9.png" ContentType="image/png"/>
  <Override PartName="/ppt/media/image1.jpeg" ContentType="image/jpeg"/>
  <Override PartName="/ppt/media/image13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1.wmf" ContentType="image/x-wmf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320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6EE4-B285-4BEA-ACD7-EBC59443A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C1A6-B038-48D4-9607-2AA7CA018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440C-7EE2-4DCC-A24C-37FD5F3B1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using the domain the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How an object can be magnet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Note:  Some ships hulls, buildings become magnetized due to Earth’s magnetic field and constant vib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How an object can be demagnet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Why some materials hold on to an induced field and others do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2C56-6520-47F7-8B4B-928A2D435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 How does this help explain the domain theory of magnetis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 RHR - Straight Condu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 RHR - Loop of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 RHR - Solen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7D49-3B3E-4347-A19E-9CE5AE5F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F16B-40B5-4DB3-BF54-5E7814E6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F92-C97B-4430-8388-A4672225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AB75-E414-40A6-B404-D347E4E3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76CE-5537-4547-AA87-6E2B08AF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53AE-588A-4695-B52E-57C39647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4340-EB0B-4BEF-A4B8-D63A1041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5560-DF6A-4DCA-B8C2-D948A73F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DC95-39EE-4BF6-A0A2-2AC43A74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1516-76F8-47E3-B28D-72A0EDFC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CBE0-F335-4795-B20E-65719B8C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D633-5A59-44A6-B006-B6A50357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A33D-5E66-4B93-B9C8-F8759478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8827-A25B-4A3E-A0C2-8C61E33F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25CA-C4D3-41C4-8111-8B66953A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AA43-E800-4AD7-9A4C-461E7E91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8B37-4583-46B2-A0B3-9CC56590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8DA23-D7E8-4FFE-A4E3-60FA1BE6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6BEBA-B2CA-468E-9506-6D0F8957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88ACD-1E38-40AD-9A9F-B02EF491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E1F5E-70ED-4BEB-9DDC-6A0E98D0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08AB0-7D6F-46A1-8066-AB6C817F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DD17-29A8-4F94-869B-76141557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A7D31-AD7F-42AE-A949-22EA7527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CDEF6-5E8C-4633-84CF-6761D81E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FAB9A-29D0-4313-B2DB-959DEC7F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FD36F-B03B-4F2A-AB45-4E9D4291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192B8-C040-4E88-B988-20D9DB23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03171-0F19-4C6B-8280-5D59713D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89097-02AB-4D3A-ACDA-391D1353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5BC3F-B510-4AE8-8B37-3EEC1C95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046A5-74D7-412B-9652-CC193C86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C3C93-5F57-4EF6-976B-584FC95A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82E1-B48D-4F61-8970-CE9B1703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FD8F0-78D3-4CFB-B9D2-9F1658B6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FD22C-0093-479B-A40F-E831DA71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EBCEF-7A45-4191-80F4-7CF7C990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06985-08B3-4D21-A01F-EADAF601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8EC96-7A10-4555-B93E-7167A17A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DDEBA-3074-4D02-B67D-019B23E0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FB656-0AA9-47A8-AEE2-A1ECDBF8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DA200-187D-4D20-8285-02D51BF4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75568-BF5F-4355-BFE8-5F49B736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B36-F061-4A85-BF08-CBBC289A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D811-90AC-43D7-9B72-1DCB5914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2A2-B602-48FB-A8D0-E400D82C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B742-5DB2-4586-B1B9-1B074046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BAB3-E15A-4DBA-9B9D-D8FC0CD6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39F2-5D49-4284-AF92-1F0F4895E3F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5AC3-BD54-4F7F-BAC0-5B32BA869FB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BA1F-D9E8-4CB2-829C-3E64CA2B998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42E1-C59C-4888-946A-609159749B7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hat do we know about magnetism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They have po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Opposite poles attract, similar poles rep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It is an action-at-a-distance force (therefore can be described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terms of field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One of the oldest known forces (magnetite was a naturall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occurring magnet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Is used for navigation (Earth’s iron core creates a magnetic fiel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aligned in the NS directio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hat are some properties of magnet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Things can be magnetized and demagnetiz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When a magnet is broken in half it makes two smaller magne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Some objects when magnetized maintain the field, others do no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Heating, dropping and striking a magnet can demagnetize i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A strong magnetic field can reverse the direction of a bar magn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857760" y="14040"/>
            <a:ext cx="142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L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Incandescent ligh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main Theo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rromagnetic materials can be magnetized (ex. Iron, nickel, cobal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rromagnetic materials are made up of tiny magnetic domains which act like miniature magn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, on average, the magnetic domains align they create an induced magn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lectromagnet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ersted’s Principal:  A moving electric current induces a magnetic fiel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direction of the induced electromagnetic field can be determined using the Right Hand Ru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3960720" cy="2337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"/>
          <p:cNvPicPr/>
          <p:nvPr/>
        </p:nvPicPr>
        <p:blipFill>
          <a:blip r:embed="rId2"/>
          <a:stretch/>
        </p:blipFill>
        <p:spPr>
          <a:xfrm>
            <a:off x="5651640" y="765000"/>
            <a:ext cx="3095640" cy="2600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"/>
          <p:cNvPicPr/>
          <p:nvPr/>
        </p:nvPicPr>
        <p:blipFill>
          <a:blip r:embed="rId3"/>
          <a:stretch/>
        </p:blipFill>
        <p:spPr>
          <a:xfrm>
            <a:off x="1332000" y="3645000"/>
            <a:ext cx="6769080" cy="29606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2556000" y="2852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HR for straight con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6300720" y="62373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HR for solen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4617b"/>
                </a:solidFill>
                <a:latin typeface="Calibri"/>
              </a:rPr>
              <a:t>Relative permeability:</a:t>
            </a: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 is the ratio of the magnetic field strength for a particular core material to the magnetic field strength in the absent of the material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28956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4617b"/>
                </a:solidFill>
                <a:latin typeface="Calibri"/>
              </a:rPr>
              <a:t>Magnetic Force on Moving Charg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37400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0492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the magnetic fields of the permanent magnet and the conducto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rmine the direction of the force on the conduct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2139840" cy="2155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2"/>
          <a:stretch/>
        </p:blipFill>
        <p:spPr>
          <a:xfrm>
            <a:off x="5029200" y="2209680"/>
            <a:ext cx="2154240" cy="2154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3"/>
          <a:stretch/>
        </p:blipFill>
        <p:spPr>
          <a:xfrm>
            <a:off x="2362320" y="4952880"/>
            <a:ext cx="426708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Show the labels of the magnetic poles, the magnetic field, and</a:t>
            </a:r>
            <a:br>
              <a:rPr sz="2000"/>
            </a:b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the direction of force on the conduct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4191120" cy="2587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4927680" y="2286000"/>
            <a:ext cx="3911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23:54:19Z</dcterms:created>
  <dc:creator>Chanh &amp; Nhat</dc:creator>
  <dc:description/>
  <dc:language>en-US</dc:language>
  <cp:lastModifiedBy>Katie</cp:lastModifiedBy>
  <cp:lastPrinted>2013-07-12T14:42:58Z</cp:lastPrinted>
  <dcterms:modified xsi:type="dcterms:W3CDTF">2014-07-11T15:34:48Z</dcterms:modified>
  <cp:revision>22</cp:revision>
  <dc:subject/>
  <dc:title>Magnetism</dc:title>
</cp:coreProperties>
</file>